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yeahbaby.wav" ContentType="audio/x-wav"/>
  <Override PartName="/ppt/media/image1.png" ContentType="image/png"/>
  <Override PartName="/ppt/media/image19.gif" ContentType="image/gif"/>
  <Override PartName="/ppt/media/image10.png" ContentType="image/png"/>
  <Override PartName="/ppt/media/freezegopher.wav" ContentType="audio/x-wav"/>
  <Override PartName="/ppt/media/image21.png" ContentType="image/png"/>
  <Override PartName="/ppt/media/coin.wav" ContentType="audio/x-wav"/>
  <Override PartName="/ppt/media/image18.wmf" ContentType="image/x-wmf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2.wmf" ContentType="image/x-wmf"/>
  <Override PartName="/ppt/media/image5.png" ContentType="image/png"/>
  <Override PartName="/ppt/media/whoosh.wav" ContentType="audio/x-wav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12CB-218F-4697-AE8E-27C8B8876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654-6094-42FF-AB96-80475639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found approximations, remember that their squares were always either smaller or larger than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anybody get anything different?  Why is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#1: Ask for any pattern they see in the decimal expa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F886-9036-4E67-B976-7E3B0798D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2CC8-6BB9-40BE-827E-39ED5B82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not do this- play gam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D670-9637-4354-9F31-87901ADE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00ff"/>
                </a:solidFill>
                <a:latin typeface="Calibri"/>
              </a:rPr>
              <a:t>Maybe do one per group or if time permits, let every group do each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ize afterw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B7DE-DA46-4AE3-A6AC-D63AE3CF5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E2F0-1462-4B19-8397-DAAD9FC2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5884-8E53-4BE3-9B7C-C7DAD11B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CC8-2349-4C51-8349-5C76A02D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127-BA53-4899-A232-8D9E9D02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A43A-3646-4705-94DC-8BA0C5978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3F4A-61E8-4EDA-8404-79CFAE9F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0D7-5D28-42A3-A44B-23FA863C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0673-F152-48CD-8498-60DB2FD2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32F9-E88A-4CAE-AE87-D3200E7D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ABFB-90D0-40F9-B63A-3998EF43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019F-3833-41E9-A749-40C30910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31B-8D15-4E36-A1E2-31FA63AD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D915-83F3-41C2-923F-A59AD65F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9F32-93C4-4EB4-A22D-5E140B3C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BD67-9819-4DAA-96DF-79E9F164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2123-BE9B-445E-9731-4685C39E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E72E-D217-469B-9947-40206999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C115D-C3C6-442D-A313-48B26E9B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85F94-119E-4AD6-BB28-AE8DA672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9836C-6860-49EC-BC82-396E1BD8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F844-B7DD-4CF6-BED0-1914B38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2F3E6-7768-48A0-AC03-62F78AB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E0C-27E1-4A1C-8678-8BF39BEF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1085E-C52B-43B5-A4D1-4B6E47F6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24B5-7F73-4BA6-8349-87D5D012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E7594-81F4-4168-9992-72BCDEF7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136E3-177D-42E2-B49B-864626C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14501-7EAE-4CBD-A243-157ADB15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2E601-A919-48C4-AF31-2A52AC22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ED393-5378-4B81-8547-FD1582E6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72A27-7DEA-4D18-AFFD-4EDCAE53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741A-2BB8-40B5-A487-584E34BA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6C45E-FB1A-41C1-8781-DCE664D3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37F-9D9B-402A-B7EA-6BB696EC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B9394-EB4D-49A3-90CE-63CEFB9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989A-5F6F-4867-BDCC-956C3A6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B49E0-273D-42DB-BD27-C9551595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5660-D9C8-4F4D-9181-8EDC295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D85BF-00B7-43C5-91E1-D6E1CC7A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34AF3-28D2-4BB8-9B8F-F5C5ED6A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40B3D-CB4A-42F8-B3A3-9079EE90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3386-30E5-4201-A526-9890627A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0AF5-C691-4209-AF13-A2CF0A34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CEE63-536A-4489-B96C-F043918F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0BF-938D-4E85-B98A-62B35376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3509-1D96-4083-A212-05AAA92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1D69B-0158-46A0-840E-D8C28B44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5F37-D2D8-45B3-928D-639CEBA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422D6-8822-48D4-8165-8C57C410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0FBF5-D4C7-4CB5-82FF-EC1C0A74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85FED-22C0-47D0-B187-5B9CCB3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1B365-5311-49ED-9D00-1C320A8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30C9D-8EBC-43EE-8FCA-B8E0534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A8511-83A0-480F-9EDC-F8D2C129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3C1E-77B6-4AFF-AD1E-DEDEECEC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BEB-82FC-4BE0-9C19-EB2B317D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1D2DB-C0DE-49D1-93D9-FF43D84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CC35-DCBC-4446-8321-1349E4A4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872CB-DCC1-4F08-BC78-1AD40DB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D3A2C-F3A4-425D-9877-940342F6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50EE1-E720-4BB8-9A07-04874BF4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97606-D864-465E-AEEC-F7682ED6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13B1-04BC-4EC5-A21A-35A2B355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EB01A-A881-4B0F-B452-7837FE9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251D7-DD21-40E6-97E5-31756127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D1F7-911D-41CD-9E22-E36C0E37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D67-365C-4FD5-AE37-CE98D531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C92D3-7498-4BE3-B472-F39379B2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71CB-2027-40A2-BDFC-BBE5555B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02BDD-DCEE-4B5E-8902-254A02C4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803B-437B-4B2B-A8B2-9764E281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E43-8BF9-4FF0-BB4F-2A1DB6F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516F-6A79-479F-84C0-1BF53167EC4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0E67-A3C5-4E42-8DB9-E85E7BF17746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16AF-B849-4E52-99E5-2B3996E9538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9EEE-D76B-4488-B1CA-21ABFD32934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80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CF6-F5D4-4677-B999-787567C2694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CEA4-EAF1-4BB0-97A3-EFA7F2A1399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yeahbaby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mathforum.org/library/drmath/sets/select/dm_repeat_decimal.html" TargetMode="External"/><Relationship Id="rId2" Type="http://schemas.openxmlformats.org/officeDocument/2006/relationships/hyperlink" Target="http://www.mathematicalquilts.com/Quilts_-_Page_2.html" TargetMode="External"/><Relationship Id="rId3" Type="http://schemas.openxmlformats.org/officeDocument/2006/relationships/hyperlink" Target="http://www.educationplace.biz/math/mathsteps/7/a/7.rationals.ideas1.html" TargetMode="External"/><Relationship Id="rId4" Type="http://schemas.openxmlformats.org/officeDocument/2006/relationships/hyperlink" Target="http://hotmath.com/search/hotmath-search.jsp?term=repeat" TargetMode="External"/><Relationship Id="rId5" Type="http://schemas.openxmlformats.org/officeDocument/2006/relationships/hyperlink" Target="http://hotmath.com/search/hotmath-search.jsp?term=repeat" TargetMode="External"/><Relationship Id="rId6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whoosh.wav"/><Relationship Id="rId3" Type="http://schemas.openxmlformats.org/officeDocument/2006/relationships/audio" Target="../media/coin.wav"/><Relationship Id="rId4" Type="http://schemas.openxmlformats.org/officeDocument/2006/relationships/audio" Target="../media/freezegophe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3810240" cy="325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267440" cy="4267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"/>
          <p:cNvSpPr/>
          <p:nvPr/>
        </p:nvSpPr>
        <p:spPr>
          <a:xfrm>
            <a:off x="5105520" y="48769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5.1 and 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By: John and Am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yeahba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oblem 5-1 Follow-Up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w use your calculator to find the length of the hypotenus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this value close to your approximate valu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 and answ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:\Documents and Settings\bakerct4\Local Settings\Temporary Internet Files\Content.IE5\RCXGXNF3\MCj02865280000[1].wmf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6708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4771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 Black"/>
              </a:rPr>
              <a:t>5.2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Arial Black"/>
              </a:rPr>
              <a:t>Representing Fractions </a:t>
            </a:r>
            <a:br>
              <a:rPr sz="3600"/>
            </a:br>
            <a:r>
              <a:rPr b="1" lang="en-US" sz="3600" spc="-1" strike="noStrike">
                <a:solidFill>
                  <a:srgbClr val="ff8d3e"/>
                </a:solidFill>
                <a:latin typeface="Arial Black"/>
              </a:rPr>
              <a:t>as Decimal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C:\Users\Amelia\AppData\Local\Microsoft\Windows\Temporary Internet Files\Content.IE5\1OD8ABO8\MCj03182260000[1].wmf"/>
          <p:cNvPicPr/>
          <p:nvPr/>
        </p:nvPicPr>
        <p:blipFill>
          <a:blip r:embed="rId1"/>
          <a:stretch/>
        </p:blipFill>
        <p:spPr>
          <a:xfrm rot="1200000">
            <a:off x="6544800" y="358920"/>
            <a:ext cx="1024200" cy="147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C:\Users\Amelia\AppData\Local\Microsoft\Windows\Temporary Internet Files\Content.IE5\1OD8ABO8\MCj03182260000[1].wmf"/>
          <p:cNvPicPr/>
          <p:nvPr/>
        </p:nvPicPr>
        <p:blipFill>
          <a:blip r:embed="rId2"/>
          <a:stretch/>
        </p:blipFill>
        <p:spPr>
          <a:xfrm rot="20400000">
            <a:off x="1668240" y="282600"/>
            <a:ext cx="1023840" cy="1474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</a:rPr>
              <a:t>Take the decimal approximation you found for </a:t>
            </a: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√2 in Problem 5.1 Follow-Up and square it.  What do you ge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You either get a number that is slightly smaller or slightly larger than √2.  Why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Do you think it is possible to find the exact value using a calculato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No!  You will get similar results for √3 and √5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a743a"/>
                </a:solidFill>
                <a:latin typeface="Verdana"/>
                <a:ea typeface="Arial"/>
              </a:rPr>
              <a:t>To better understand these decimals, let’s compare them to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Box 6"/>
          <p:cNvSpPr/>
          <p:nvPr/>
        </p:nvSpPr>
        <p:spPr>
          <a:xfrm>
            <a:off x="3124080" y="38088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Think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Fractions!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¼ = 0.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1/8 = 0.125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1/3 = 0.3333333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1/11 = 0.090909090909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The first two fractions have decimal representations that end, or </a:t>
            </a:r>
            <a:r>
              <a:rPr b="1" i="1" lang="en-US" sz="2100" spc="-1" strike="noStrike">
                <a:solidFill>
                  <a:srgbClr val="9a743a"/>
                </a:solidFill>
                <a:latin typeface="Verdana"/>
              </a:rPr>
              <a:t>terminate</a:t>
            </a: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.  </a:t>
            </a:r>
            <a:r>
              <a:rPr b="0" lang="en-US" sz="2100" spc="-1" strike="noStrike">
                <a:solidFill>
                  <a:srgbClr val="0aa61d"/>
                </a:solidFill>
                <a:latin typeface="Verdana"/>
              </a:rPr>
              <a:t>(Think about the ex-</a:t>
            </a:r>
            <a:r>
              <a:rPr b="1" i="1" lang="en-US" sz="2100" spc="-1" strike="noStrike" u="sng">
                <a:solidFill>
                  <a:srgbClr val="0aa61d"/>
                </a:solidFill>
                <a:uFillTx/>
                <a:latin typeface="Verdana"/>
              </a:rPr>
              <a:t>terminator</a:t>
            </a:r>
            <a:r>
              <a:rPr b="0" lang="en-US" sz="2100" spc="-1" strike="noStrike">
                <a:solidFill>
                  <a:srgbClr val="0aa61d"/>
                </a:solidFill>
                <a:latin typeface="Verdana"/>
              </a:rPr>
              <a:t> who </a:t>
            </a:r>
            <a:r>
              <a:rPr b="1" i="1" lang="en-US" sz="2100" spc="-1" strike="noStrike" u="sng">
                <a:solidFill>
                  <a:srgbClr val="0aa61d"/>
                </a:solidFill>
                <a:uFillTx/>
                <a:latin typeface="Verdana"/>
              </a:rPr>
              <a:t>ends</a:t>
            </a:r>
            <a:r>
              <a:rPr b="0" lang="en-US" sz="2100" spc="-1" strike="noStrike">
                <a:solidFill>
                  <a:srgbClr val="0aa61d"/>
                </a:solidFill>
                <a:latin typeface="Verdana"/>
              </a:rPr>
              <a:t> a bug’s life!)</a:t>
            </a:r>
            <a:r>
              <a:rPr b="0" lang="en-US" sz="21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These decimals are called</a:t>
            </a:r>
            <a:r>
              <a:rPr b="0" lang="en-US" sz="21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terminating decimal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a743a"/>
                </a:solidFill>
                <a:latin typeface="Verdana"/>
              </a:rPr>
              <a:t>The last two fractions’ decimal expansions do not terminate, but the decimals show a repeating pattern; they are called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repeating decimal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5" descr="j0157995"/>
          <p:cNvPicPr/>
          <p:nvPr/>
        </p:nvPicPr>
        <p:blipFill>
          <a:blip r:embed="rId1"/>
          <a:stretch/>
        </p:blipFill>
        <p:spPr>
          <a:xfrm>
            <a:off x="6477120" y="5562720"/>
            <a:ext cx="1600200" cy="266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C:\Users\Amelia\AppData\Local\Microsoft\Windows\Temporary Internet Files\Content.IE5\88C14T7X\MCj04376410000[1].png"/>
          <p:cNvPicPr/>
          <p:nvPr/>
        </p:nvPicPr>
        <p:blipFill>
          <a:blip r:embed="rId2"/>
          <a:stretch/>
        </p:blipFill>
        <p:spPr>
          <a:xfrm>
            <a:off x="7291440" y="3786120"/>
            <a:ext cx="110952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9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4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4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mic"/>
                <a:ea typeface="Aharoni"/>
              </a:rPr>
              <a:t>Batting Averag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73" name="Example_3__Decimals__Terminating_and_Repeating__Batting_Averages.asf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6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Your Turn!!  </a:t>
            </a:r>
            <a:br>
              <a:rPr sz="1500"/>
            </a:b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716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a743a"/>
                </a:solidFill>
                <a:uFillTx/>
                <a:latin typeface="Times New Roman"/>
                <a:ea typeface="Times New Roman"/>
              </a:rPr>
              <a:t>Problem 5.2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Write each fraction as a decimal, and tell whether the decimal is terminating or repeating.  If it is repeating, tell which part repe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9a743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/5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249"/>
              </a:spcBef>
              <a:buClr>
                <a:srgbClr val="9a743a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3/8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3. 5/6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4. 35/10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5. 8/9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990720" cy="99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3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9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3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Answers to                        </a:t>
            </a:r>
            <a:br>
              <a:rPr sz="4400"/>
            </a:b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Problem 5.2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71680" indent="-571680" algn="ctr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2/5 = 0.4; termina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b9f25"/>
                </a:solidFill>
                <a:latin typeface="Verdana"/>
              </a:rPr>
              <a:t>3/8 = 0.375; termina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 5/6 = 0.8333…; repeating; 3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en-US" sz="3400" spc="-1" strike="noStrike">
                <a:solidFill>
                  <a:srgbClr val="6b9f25"/>
                </a:solidFill>
                <a:latin typeface="Verdana"/>
              </a:rPr>
              <a:t>35/10 = 3.5; termina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 8/99 = 0.08080808…; repeating; 08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6" descr="C:\Documents and Settings\bakerct4\Local Settings\Temporary Internet Files\Content.IE5\Q9ML3ZQW\MCj04126840000[1].wmf"/>
          <p:cNvPicPr/>
          <p:nvPr/>
        </p:nvPicPr>
        <p:blipFill>
          <a:blip r:embed="rId1"/>
          <a:stretch/>
        </p:blipFill>
        <p:spPr>
          <a:xfrm>
            <a:off x="1905120" y="533520"/>
            <a:ext cx="12589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</a:t>
            </a:r>
            <a:r>
              <a:rPr b="1" lang="en-US" sz="4000" spc="-1" strike="noStrike">
                <a:solidFill>
                  <a:srgbClr val="ff8d3e"/>
                </a:solidFill>
                <a:latin typeface="comic"/>
                <a:ea typeface="Aharoni"/>
              </a:rPr>
              <a:t>Problem 5.2 Follow-Up #2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3520" y="1904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.  Find a fraction that is equivalent to the given terminating decim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a. 0.35</a:t>
            </a: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b. 2.1456        c. 89.0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</a:t>
            </a:r>
            <a:br>
              <a:rPr sz="3200"/>
            </a:br>
            <a:r>
              <a:rPr b="1" lang="en-US" sz="32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Answers  to</a:t>
            </a:r>
            <a:br>
              <a:rPr sz="4400"/>
            </a:b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         Problem 5.2, #2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3280" y="20602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a.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b.               or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743a"/>
                </a:solidFill>
                <a:latin typeface="Verdana"/>
              </a:rPr>
              <a:t>2c.                or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:\Documents and Settings\bakerct4\Local Settings\Temporary Internet Files\Content.IE5\Q9ML3ZQW\MCj04126840000[1].wmf"/>
          <p:cNvPicPr/>
          <p:nvPr/>
        </p:nvPicPr>
        <p:blipFill>
          <a:blip r:embed="rId1"/>
          <a:stretch/>
        </p:blipFill>
        <p:spPr>
          <a:xfrm>
            <a:off x="2133720" y="762120"/>
            <a:ext cx="1258920" cy="120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7"/>
              <p:cNvSpPr txBox="1"/>
              <p:nvPr/>
            </p:nvSpPr>
            <p:spPr>
              <a:xfrm>
                <a:off x="1447920" y="1981080"/>
                <a:ext cx="6094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8"/>
              <p:cNvSpPr txBox="1"/>
              <p:nvPr/>
            </p:nvSpPr>
            <p:spPr>
              <a:xfrm>
                <a:off x="1371600" y="3352680"/>
                <a:ext cx="1143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14"/>
              <p:cNvSpPr txBox="1"/>
              <p:nvPr/>
            </p:nvSpPr>
            <p:spPr>
              <a:xfrm>
                <a:off x="3886200" y="3429000"/>
                <a:ext cx="965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5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7"/>
              <p:cNvSpPr txBox="1"/>
              <p:nvPr/>
            </p:nvSpPr>
            <p:spPr>
              <a:xfrm>
                <a:off x="1371600" y="4800600"/>
                <a:ext cx="12193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21"/>
              <p:cNvSpPr txBox="1"/>
              <p:nvPr/>
            </p:nvSpPr>
            <p:spPr>
              <a:xfrm>
                <a:off x="4038480" y="4800600"/>
                <a:ext cx="1052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4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183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We Have, Who Has?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o has the first ca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Picture 4" descr="C:\Documents and Settings\bakerct4\Local Settings\Temporary Internet Files\Content.IE5\O4I1CDUN\MMj02888700000[1].gif"/>
          <p:cNvPicPr/>
          <p:nvPr/>
        </p:nvPicPr>
        <p:blipFill>
          <a:blip r:embed="rId1"/>
          <a:stretch/>
        </p:blipFill>
        <p:spPr>
          <a:xfrm>
            <a:off x="3276720" y="2286000"/>
            <a:ext cx="2442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315200" cy="68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9900"/>
                </a:solidFill>
                <a:latin typeface="Verdana"/>
              </a:rPr>
              <a:t>            </a:t>
            </a: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Pythagoras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60480" y="4568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comic"/>
                <a:ea typeface="Aharoni"/>
              </a:rPr>
              <a:t>              </a:t>
            </a: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Your Turn Again!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ACE Problems page (60)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Read “Think about this!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a743a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 </a:t>
            </a:r>
            <a:r>
              <a:rPr b="1" lang="en-US" sz="4000" spc="-1" strike="noStrike">
                <a:solidFill>
                  <a:srgbClr val="9a743a"/>
                </a:solidFill>
                <a:latin typeface="Verdana"/>
              </a:rPr>
              <a:t>answer #’s 18-2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d3e"/>
                </a:solidFill>
                <a:latin typeface="comic"/>
                <a:ea typeface="Aharoni"/>
              </a:rPr>
              <a:t>To find more info…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480" y="1599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mathforum.org/library/drmath/sets/select/dm_repeat_decimal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mathematicalquilts.com/Quilts_-_Page_2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www.educationplace.biz/math/mathsteps/7/a/7.rationals.ideas1.ht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http://hotmath.com/search/hotmath-search.jsp?term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5"/>
              </a:rPr>
              <a:t>=repe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8d3e"/>
                </a:solidFill>
                <a:latin typeface="comic"/>
                <a:ea typeface="Aharoni"/>
              </a:rPr>
              <a:t>Tell Us What You Think</a:t>
            </a:r>
            <a:endParaRPr b="1" lang="en-US" sz="4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33520" y="1676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would you enhance this lesson if you taught it in your classro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would you repea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would you chan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1" name="Picture 2" descr="C:\Users\Amelia\AppData\Local\Microsoft\Windows\Temporary Internet Files\Content.IE5\88C14T7X\MCj04338680000[1].png"/>
          <p:cNvPicPr/>
          <p:nvPr/>
        </p:nvPicPr>
        <p:blipFill>
          <a:blip r:embed="rId4"/>
          <a:stretch/>
        </p:blipFill>
        <p:spPr>
          <a:xfrm>
            <a:off x="3581280" y="3962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990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a743a"/>
                </a:solidFill>
                <a:latin typeface="Arial Black"/>
              </a:rPr>
              <a:t>I like a teacher who gives you something to take home to think about besides homework.  </a:t>
            </a:r>
            <a:br>
              <a:rPr sz="3400"/>
            </a:br>
            <a:r>
              <a:rPr b="1" lang="en-US" sz="3400" spc="-1" strike="noStrike">
                <a:solidFill>
                  <a:srgbClr val="9a743a"/>
                </a:solidFill>
                <a:latin typeface="Arial Black"/>
              </a:rPr>
              <a:t>~Lily Tomlin as "Edith Ann</a:t>
            </a:r>
            <a:r>
              <a:rPr b="1" lang="en-US" sz="3400" spc="-1" strike="noStrike">
                <a:solidFill>
                  <a:srgbClr val="9a743a"/>
                </a:solidFill>
                <a:latin typeface="Verdana"/>
              </a:rPr>
              <a:t>"</a:t>
            </a:r>
            <a:br>
              <a:rPr sz="3400"/>
            </a:br>
            <a:endParaRPr b="1" lang="en-US" sz="34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1680" y="304920"/>
            <a:ext cx="85104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                   </a:t>
            </a: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352520" y="1389240"/>
            <a:ext cx="4753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rpentry term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fter leng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illustrated in the diagram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rpenter wants to make a roof that has a span of 20 ft and a rise of 10 ft. What should the rafter length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7"/>
          <p:cNvSpPr/>
          <p:nvPr/>
        </p:nvSpPr>
        <p:spPr>
          <a:xfrm>
            <a:off x="957600" y="561960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after length should be about 14.1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74"/>
          <p:cNvGrpSpPr/>
          <p:nvPr/>
        </p:nvGrpSpPr>
        <p:grpSpPr>
          <a:xfrm>
            <a:off x="970920" y="3117960"/>
            <a:ext cx="5218200" cy="368280"/>
            <a:chOff x="970920" y="3117960"/>
            <a:chExt cx="5218200" cy="368280"/>
          </a:xfrm>
        </p:grpSpPr>
        <p:sp>
          <p:nvSpPr>
            <p:cNvPr id="285" name="Rectangle 46"/>
            <p:cNvSpPr/>
            <p:nvPr/>
          </p:nvSpPr>
          <p:spPr>
            <a:xfrm>
              <a:off x="970920" y="3117960"/>
              <a:ext cx="129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9"/>
            <p:cNvSpPr/>
            <p:nvPr/>
          </p:nvSpPr>
          <p:spPr>
            <a:xfrm>
              <a:off x="2824560" y="3117960"/>
              <a:ext cx="33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Use the Pythagorean Theore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80"/>
          <p:cNvGrpSpPr/>
          <p:nvPr/>
        </p:nvGrpSpPr>
        <p:grpSpPr>
          <a:xfrm>
            <a:off x="1031400" y="5202360"/>
            <a:ext cx="4739040" cy="368280"/>
            <a:chOff x="1031400" y="5202360"/>
            <a:chExt cx="4739040" cy="368280"/>
          </a:xfrm>
        </p:grpSpPr>
        <p:sp>
          <p:nvSpPr>
            <p:cNvPr id="288" name="Rectangle 54"/>
            <p:cNvSpPr/>
            <p:nvPr/>
          </p:nvSpPr>
          <p:spPr>
            <a:xfrm>
              <a:off x="2823480" y="5202360"/>
              <a:ext cx="29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ound to the nearest tent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50"/>
            <p:cNvGrpSpPr/>
            <p:nvPr/>
          </p:nvGrpSpPr>
          <p:grpSpPr>
            <a:xfrm>
              <a:off x="1031400" y="5202360"/>
              <a:ext cx="994680" cy="368280"/>
              <a:chOff x="1031400" y="5202360"/>
              <a:chExt cx="994680" cy="368280"/>
            </a:xfrm>
          </p:grpSpPr>
          <p:sp>
            <p:nvSpPr>
              <p:cNvPr id="290" name="Rectangle 48"/>
              <p:cNvSpPr/>
              <p:nvPr/>
            </p:nvSpPr>
            <p:spPr>
              <a:xfrm>
                <a:off x="1031400" y="5202360"/>
                <a:ext cx="99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14.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1" name="Picture 49" descr=""/>
              <p:cNvPicPr/>
              <p:nvPr/>
            </p:nvPicPr>
            <p:blipFill>
              <a:blip r:embed="rId1"/>
              <a:stretch/>
            </p:blipFill>
            <p:spPr>
              <a:xfrm>
                <a:off x="1279440" y="5332320"/>
                <a:ext cx="182160" cy="106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92" name="Group 79"/>
          <p:cNvGrpSpPr/>
          <p:nvPr/>
        </p:nvGrpSpPr>
        <p:grpSpPr>
          <a:xfrm>
            <a:off x="1042920" y="4784760"/>
            <a:ext cx="4917600" cy="368280"/>
            <a:chOff x="1042920" y="4784760"/>
            <a:chExt cx="4917600" cy="368280"/>
          </a:xfrm>
        </p:grpSpPr>
        <p:grpSp>
          <p:nvGrpSpPr>
            <p:cNvPr id="293" name="Group 78"/>
            <p:cNvGrpSpPr/>
            <p:nvPr/>
          </p:nvGrpSpPr>
          <p:grpSpPr>
            <a:xfrm>
              <a:off x="1042920" y="4784760"/>
              <a:ext cx="4917600" cy="368280"/>
              <a:chOff x="1042920" y="4784760"/>
              <a:chExt cx="4917600" cy="368280"/>
            </a:xfrm>
          </p:grpSpPr>
          <p:sp>
            <p:nvSpPr>
              <p:cNvPr id="294" name="Rectangle 55"/>
              <p:cNvSpPr/>
              <p:nvPr/>
            </p:nvSpPr>
            <p:spPr>
              <a:xfrm>
                <a:off x="2836800" y="4784760"/>
                <a:ext cx="312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Find the positive square roo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0"/>
              <p:cNvSpPr/>
              <p:nvPr/>
            </p:nvSpPr>
            <p:spPr>
              <a:xfrm>
                <a:off x="1042920" y="4784760"/>
                <a:ext cx="125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     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61"/>
            <p:cNvGrpSpPr/>
            <p:nvPr/>
          </p:nvGrpSpPr>
          <p:grpSpPr>
            <a:xfrm>
              <a:off x="1544400" y="4786200"/>
              <a:ext cx="678600" cy="344520"/>
              <a:chOff x="1544400" y="4786200"/>
              <a:chExt cx="678600" cy="344520"/>
            </a:xfrm>
          </p:grpSpPr>
          <p:pic>
            <p:nvPicPr>
              <p:cNvPr id="297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4400" y="4786200"/>
                <a:ext cx="300600" cy="34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Line 53"/>
              <p:cNvSpPr/>
              <p:nvPr/>
            </p:nvSpPr>
            <p:spPr>
              <a:xfrm>
                <a:off x="1809360" y="4840920"/>
                <a:ext cx="41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9" name="Group 77"/>
          <p:cNvGrpSpPr/>
          <p:nvPr/>
        </p:nvGrpSpPr>
        <p:grpSpPr>
          <a:xfrm>
            <a:off x="960840" y="4368960"/>
            <a:ext cx="2512080" cy="368280"/>
            <a:chOff x="960840" y="4368960"/>
            <a:chExt cx="2512080" cy="368280"/>
          </a:xfrm>
        </p:grpSpPr>
        <p:sp>
          <p:nvSpPr>
            <p:cNvPr id="300" name="Rectangle 56"/>
            <p:cNvSpPr/>
            <p:nvPr/>
          </p:nvSpPr>
          <p:spPr>
            <a:xfrm>
              <a:off x="2822760" y="43689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Ad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3"/>
            <p:cNvSpPr/>
            <p:nvPr/>
          </p:nvSpPr>
          <p:spPr>
            <a:xfrm>
              <a:off x="960840" y="436896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76"/>
          <p:cNvGrpSpPr/>
          <p:nvPr/>
        </p:nvGrpSpPr>
        <p:grpSpPr>
          <a:xfrm>
            <a:off x="960840" y="3951360"/>
            <a:ext cx="3159000" cy="368280"/>
            <a:chOff x="960840" y="3951360"/>
            <a:chExt cx="3159000" cy="368280"/>
          </a:xfrm>
        </p:grpSpPr>
        <p:sp>
          <p:nvSpPr>
            <p:cNvPr id="303" name="Rectangle 57"/>
            <p:cNvSpPr/>
            <p:nvPr/>
          </p:nvSpPr>
          <p:spPr>
            <a:xfrm>
              <a:off x="2823480" y="395136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Square 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5"/>
            <p:cNvSpPr/>
            <p:nvPr/>
          </p:nvSpPr>
          <p:spPr>
            <a:xfrm>
              <a:off x="960840" y="395136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100 + 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75"/>
          <p:cNvGrpSpPr/>
          <p:nvPr/>
        </p:nvGrpSpPr>
        <p:grpSpPr>
          <a:xfrm>
            <a:off x="971280" y="3533760"/>
            <a:ext cx="6918120" cy="368280"/>
            <a:chOff x="971280" y="3533760"/>
            <a:chExt cx="6918120" cy="368280"/>
          </a:xfrm>
        </p:grpSpPr>
        <p:sp>
          <p:nvSpPr>
            <p:cNvPr id="306" name="Rectangle 58"/>
            <p:cNvSpPr/>
            <p:nvPr/>
          </p:nvSpPr>
          <p:spPr>
            <a:xfrm>
              <a:off x="2826000" y="3533760"/>
              <a:ext cx="50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Replace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with 10 (half the span), and </a:t>
              </a:r>
              <a:r>
                <a:rPr b="0" i="1" lang="en-US" sz="1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with 10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66"/>
            <p:cNvSpPr/>
            <p:nvPr/>
          </p:nvSpPr>
          <p:spPr>
            <a:xfrm>
              <a:off x="971280" y="353376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b26b02"/>
                  </a:solidFill>
                  <a:latin typeface="Arial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lang="en-US" sz="1800" spc="-1" strike="noStrike">
                  <a:solidFill>
                    <a:srgbClr val="b26b02"/>
                  </a:solidFill>
                  <a:latin typeface="Arial"/>
                </a:rPr>
                <a:t>1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Picture 67" descr=""/>
          <p:cNvPicPr/>
          <p:nvPr/>
        </p:nvPicPr>
        <p:blipFill>
          <a:blip r:embed="rId3"/>
          <a:stretch/>
        </p:blipFill>
        <p:spPr>
          <a:xfrm>
            <a:off x="6248520" y="1600200"/>
            <a:ext cx="270504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do we know?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1294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section 2-3, we drew line segments with the lengths √2, √3,  and the √4.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also learned the Pythagorean theorem, which occasionally gives these values for the hypotenuse of right triang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Verdana"/>
              </a:rPr>
              <a:t>How can we use this? Theodorus’ Wheel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1426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a right triangle with leg lengths of 1”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another triangle, using the hypotenuse of the first triangle as the lower leg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The upper leg should have a length of 1”.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Connect the legs to form the hypotenuse of the second triangle.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, use blank paper, an index card, and a straight edge ruler to draw the two triang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Right Triangle 3" descr=""/>
          <p:cNvPicPr/>
          <p:nvPr/>
        </p:nvPicPr>
        <p:blipFill>
          <a:blip r:embed="rId1"/>
          <a:stretch/>
        </p:blipFill>
        <p:spPr>
          <a:xfrm>
            <a:off x="6553080" y="4803840"/>
            <a:ext cx="1047960" cy="1712880"/>
          </a:xfrm>
          <a:prstGeom prst="rect">
            <a:avLst/>
          </a:prstGeom>
          <a:ln w="0">
            <a:noFill/>
          </a:ln>
        </p:spPr>
      </p:pic>
      <p:sp>
        <p:nvSpPr>
          <p:cNvPr id="314" name="Right Triangle 4"/>
          <p:cNvSpPr/>
          <p:nvPr/>
        </p:nvSpPr>
        <p:spPr>
          <a:xfrm flipH="1">
            <a:off x="6629400" y="5486400"/>
            <a:ext cx="914400" cy="914400"/>
          </a:xfrm>
          <a:prstGeom prst="rtTriangl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74674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685800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71629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3124080" y="5486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use/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4"/>
          <p:cNvSpPr/>
          <p:nvPr/>
        </p:nvSpPr>
        <p:spPr>
          <a:xfrm>
            <a:off x="5410080" y="571500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3733920" y="4724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l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7"/>
          <p:cNvSpPr/>
          <p:nvPr/>
        </p:nvSpPr>
        <p:spPr>
          <a:xfrm>
            <a:off x="5410080" y="4952880"/>
            <a:ext cx="1447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7010280" y="45720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le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9"/>
          <p:cNvSpPr/>
          <p:nvPr/>
        </p:nvSpPr>
        <p:spPr>
          <a:xfrm flipH="1">
            <a:off x="7391520" y="495288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232"/>
                </a:solidFill>
                <a:latin typeface="Verdana"/>
              </a:rPr>
              <a:t>To complete the whee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1828800" y="16765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eat this process with a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iangle.  What value does the hypotenuse give each ti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ight Triangle 5"/>
          <p:cNvSpPr/>
          <p:nvPr/>
        </p:nvSpPr>
        <p:spPr>
          <a:xfrm flipH="1">
            <a:off x="5638680" y="4724280"/>
            <a:ext cx="1828800" cy="1828800"/>
          </a:xfrm>
          <a:prstGeom prst="rtTriangle">
            <a:avLst/>
          </a:prstGeom>
          <a:solidFill>
            <a:srgbClr val="0070c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Right Triangle 6" descr=""/>
          <p:cNvPicPr/>
          <p:nvPr/>
        </p:nvPicPr>
        <p:blipFill>
          <a:blip r:embed="rId1"/>
          <a:stretch/>
        </p:blipFill>
        <p:spPr>
          <a:xfrm>
            <a:off x="5595840" y="3322800"/>
            <a:ext cx="2043360" cy="33638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7"/>
          <p:cNvSpPr/>
          <p:nvPr/>
        </p:nvSpPr>
        <p:spPr>
          <a:xfrm>
            <a:off x="62485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70866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64008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5943600" y="4876920"/>
            <a:ext cx="762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6327720" y="5257800"/>
            <a:ext cx="5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0"/>
          <p:cNvSpPr/>
          <p:nvPr/>
        </p:nvSpPr>
        <p:spPr>
          <a:xfrm>
            <a:off x="5943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reezegoph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209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Use the lab sheet 5-1 to complete the valu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7760"/>
            <a:ext cx="19051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t should look like thi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Right Triangle 4"/>
          <p:cNvSpPr/>
          <p:nvPr/>
        </p:nvSpPr>
        <p:spPr>
          <a:xfrm flipH="1" rot="24000">
            <a:off x="5334120" y="1066320"/>
            <a:ext cx="914400" cy="91440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ight Triangle 4"/>
          <p:cNvSpPr/>
          <p:nvPr/>
        </p:nvSpPr>
        <p:spPr>
          <a:xfrm flipH="1" rot="19008000">
            <a:off x="4799880" y="762120"/>
            <a:ext cx="128880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ight Triangle 4"/>
          <p:cNvSpPr/>
          <p:nvPr/>
        </p:nvSpPr>
        <p:spPr>
          <a:xfrm flipH="1" rot="16860000">
            <a:off x="4161600" y="713880"/>
            <a:ext cx="1581120" cy="914400"/>
          </a:xfrm>
          <a:prstGeom prst="rtTriangle">
            <a:avLst/>
          </a:prstGeom>
          <a:solidFill>
            <a:srgbClr val="00008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Triangle 4"/>
          <p:cNvSpPr/>
          <p:nvPr/>
        </p:nvSpPr>
        <p:spPr>
          <a:xfrm flipH="1" rot="14953200">
            <a:off x="3581280" y="837720"/>
            <a:ext cx="1828800" cy="91476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Triangle 4"/>
          <p:cNvSpPr/>
          <p:nvPr/>
        </p:nvSpPr>
        <p:spPr>
          <a:xfrm flipH="1" rot="13335000">
            <a:off x="3170880" y="1247760"/>
            <a:ext cx="203832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ight Triangle 4"/>
          <p:cNvSpPr/>
          <p:nvPr/>
        </p:nvSpPr>
        <p:spPr>
          <a:xfrm flipH="1" rot="11982600">
            <a:off x="2971800" y="1676160"/>
            <a:ext cx="2230560" cy="914760"/>
          </a:xfrm>
          <a:prstGeom prst="rtTriangle">
            <a:avLst/>
          </a:prstGeom>
          <a:solidFill>
            <a:srgbClr val="0000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ight Triangle 4"/>
          <p:cNvSpPr/>
          <p:nvPr/>
        </p:nvSpPr>
        <p:spPr>
          <a:xfrm flipH="1" rot="10524000">
            <a:off x="2894040" y="2134080"/>
            <a:ext cx="2413080" cy="91404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ight Triangle 4"/>
          <p:cNvSpPr/>
          <p:nvPr/>
        </p:nvSpPr>
        <p:spPr>
          <a:xfrm flipH="1" rot="9168000">
            <a:off x="3047760" y="2514240"/>
            <a:ext cx="257796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ight Triangle 4"/>
          <p:cNvSpPr/>
          <p:nvPr/>
        </p:nvSpPr>
        <p:spPr>
          <a:xfrm flipH="1" rot="7924800">
            <a:off x="3352680" y="2818080"/>
            <a:ext cx="2741400" cy="914400"/>
          </a:xfrm>
          <a:prstGeom prst="rtTriangle">
            <a:avLst/>
          </a:prstGeom>
          <a:solidFill>
            <a:srgbClr val="0000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ight Triangle 4"/>
          <p:cNvSpPr/>
          <p:nvPr/>
        </p:nvSpPr>
        <p:spPr>
          <a:xfrm flipH="1" rot="6812400">
            <a:off x="3660480" y="3044520"/>
            <a:ext cx="2889360" cy="914400"/>
          </a:xfrm>
          <a:prstGeom prst="rtTriangl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Triangle 4"/>
          <p:cNvSpPr/>
          <p:nvPr/>
        </p:nvSpPr>
        <p:spPr>
          <a:xfrm flipH="1" rot="5640600">
            <a:off x="4044960" y="3117240"/>
            <a:ext cx="3035160" cy="914400"/>
          </a:xfrm>
          <a:prstGeom prst="rtTriangle">
            <a:avLst/>
          </a:prstGeom>
          <a:solidFill>
            <a:srgbClr val="ffff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5715000" y="1447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3"/>
          <p:cNvSpPr/>
          <p:nvPr/>
        </p:nvSpPr>
        <p:spPr>
          <a:xfrm>
            <a:off x="5410080" y="990720"/>
            <a:ext cx="533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724280" y="68580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5"/>
          <p:cNvSpPr/>
          <p:nvPr/>
        </p:nvSpPr>
        <p:spPr>
          <a:xfrm>
            <a:off x="3962520" y="7621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3733920" y="129528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7"/>
          <p:cNvSpPr/>
          <p:nvPr/>
        </p:nvSpPr>
        <p:spPr>
          <a:xfrm>
            <a:off x="3429000" y="1828800"/>
            <a:ext cx="838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8"/>
          <p:cNvSpPr/>
          <p:nvPr/>
        </p:nvSpPr>
        <p:spPr>
          <a:xfrm>
            <a:off x="3505320" y="2438280"/>
            <a:ext cx="99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9"/>
          <p:cNvSpPr/>
          <p:nvPr/>
        </p:nvSpPr>
        <p:spPr>
          <a:xfrm>
            <a:off x="3809880" y="2895480"/>
            <a:ext cx="914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0"/>
          <p:cNvSpPr/>
          <p:nvPr/>
        </p:nvSpPr>
        <p:spPr>
          <a:xfrm>
            <a:off x="4114800" y="3352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31"/>
          <p:cNvSpPr/>
          <p:nvPr/>
        </p:nvSpPr>
        <p:spPr>
          <a:xfrm>
            <a:off x="4495680" y="419112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2"/>
          <p:cNvSpPr/>
          <p:nvPr/>
        </p:nvSpPr>
        <p:spPr>
          <a:xfrm>
            <a:off x="5181480" y="419112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3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Verdana"/>
              </a:rPr>
              <a:t>Problem 5-1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that you have found all the values for the hypotenuses, you need to cut out the ruler from the lab sheet 5-1 and measure them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ach hypotenuse length that is not a whole number, give the two consecutive whole numbers between which the whole number is located (Ex. √2 lies between 1 and 2 on your ru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each hypotenuse length that is not a whole number, use your completed ruler to find a decimal number that is slightly less than the length and greater than the length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9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5:41:51Z</dcterms:created>
  <dc:creator>bjacobs</dc:creator>
  <dc:description/>
  <dc:language>en-US</dc:language>
  <cp:lastModifiedBy>E. Sessons</cp:lastModifiedBy>
  <dcterms:modified xsi:type="dcterms:W3CDTF">2008-06-12T17:13:34Z</dcterms:modified>
  <cp:revision>64</cp:revision>
  <dc:subject/>
  <dc:title>Wheel Of Theodorus</dc:title>
</cp:coreProperties>
</file>